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AEF-53CE-40A3-AF53-8ADA83B9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D27-19C8-4B6F-8501-818203F8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97D70-AC33-41C2-9E7A-E472715C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006F5-EBCF-498A-A260-124DFF5F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D7CC2-B764-4327-8154-A09B1327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3F7BC-6102-49F8-A616-F9E24524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FF14B-4A9B-4448-86C3-C5CA88D5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2EE02-DF9E-4CBC-8B95-19C6AA8B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938E8-5A66-4DA0-9428-E80B80FC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ADFAF-A2FB-4F0D-971E-04E15150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BCF1D-1A63-4A16-92FF-181D515B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B9FDD-4C4D-45D7-B048-51C31EFC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A2F-6546-4D57-81E1-502CC5A9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F9FD0-72D6-4B16-854D-B045C41B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FA454-B4B0-4D5F-BC7F-3B166336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C1CB9-B128-4B14-83E0-011979AA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CB688-B02A-49E7-82AF-6C3F56D2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B95D0-A037-49C5-AFFF-B3E57AA3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B955A-09FE-4F07-8067-ED3FA402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49432-2B77-482F-A436-D296F2F3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7EB55-3CBD-48E7-B685-F7239D5B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343B9-15CF-47AE-9798-80759C81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4B18F-DA84-4742-B56F-708EBAD7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EFDE-BD2B-44EF-A2DF-95D45535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42C67-7B1B-44B4-9035-78CC43FC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1F67F-B092-4BBA-937C-E7050AC0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BAF75-29AB-43FC-BAB1-502129D6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40AAE-3510-4E06-84EF-CD28C4F4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A6047-A291-4109-9D7B-0A67776D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58207-7AEF-4CC9-9CB7-27D2D4DD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A5404-624F-4C79-BB5D-EF56BF27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1ED8D-4657-45EC-9D9E-A6A175DF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26B40-8017-481E-9E24-AE2B41DC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DBEC5-118D-41E3-A940-70498511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0402-C980-4FE6-859B-A24D8AE8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34FF1-3EB9-4AA8-BE4D-A8BF380E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44E30-79D8-4B83-8695-8B265FE9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69B52-1D70-40D3-9018-9DAE1C0B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0D40E-6184-4B16-9BF4-48708AD5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2455D-F4CD-4C6F-A704-D92FE243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14703-9556-4EE4-9C4C-92F1870D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9E64B-9DEF-41C2-8B51-E8D83239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4D7CE-A2C8-47A3-906D-593A100C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F9764-8952-4970-ADD9-ACE4881E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FA6A2-0CB8-450E-B72C-44B62772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AF69-FFA9-49BF-96D8-5C731A40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DA1DB-2478-4244-B808-4E41ABFB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60914-B8BA-4FC3-8088-E7A94FE7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33FCE-FF0E-4C0D-8328-06030606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32B3F-BFC0-42E5-825F-BBF4AC81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413CC-99CC-4824-81BE-F7674B43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9C470-1E72-4FC6-BD67-24E5B11E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89611-C6A6-4361-949E-733152DD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07114-86D7-47A2-91AD-44616F59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B6905-240D-4DD4-B682-58ED7354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369F8-6F64-4C16-8C41-F704F5DA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4D6C-25EF-4A53-873C-AA4C2E43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A50ED-6152-4A9D-8360-E208D88F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C5334-4153-47A1-831F-B8D6DC77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1F0E9-8CB8-417E-95CF-15A536D6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49D86-7E08-4DC7-AE49-0E8DFA61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B30D5-C8CE-4FAC-82E0-92021BCE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B44A6-9C28-4103-B0DC-450CAB8A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8021B-FA1C-47E7-BBC8-55BCCDA6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D8E22-1C42-40AE-95BF-7589C4D7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5D9098-5688-4436-8CBC-031CBAEC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0FFE1-8B24-4C57-9A02-F9AEA5C0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8FA3-2B82-4E16-852B-1F008C38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C99BA2-CEA6-4859-AF3D-9704904F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C9917-3B87-4768-82DC-B7FF6EB1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00943-E721-40F3-B50F-FB6D0FE8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7553C-403F-4BE5-AC9A-D0BBDA73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23348-948B-4E7C-BCD1-6D3E0314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9396A-A3DC-4522-A830-AA2B596A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85208F-76CA-4525-BFE9-4FC77D2E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ECE68-ECF1-4688-B958-6EAB1C50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37209-69B9-4BD3-B30B-92A16611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5146A-8C4E-4D9D-810C-7CDF0C07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3FAB-BAC2-4421-A685-984D251E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F5E985-D68C-41FE-8885-EFEFEC2E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05166-468A-458F-86BC-F9DF9AE5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1E3D2-E0FF-4B03-9387-86DE9283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0693AD-F1B1-4FD1-8707-1F802910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274AE5-EBAF-4D27-91AD-3A15E979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5B1F0-11CE-488B-A287-8A7971AC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8658AC-A740-4B28-BC95-A7A95F87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E3669-9B7C-40DD-AA1D-DFCDC42E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3BBCB-8821-410A-AC82-EEC4A282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90561E-8FF1-4694-A6D9-88077652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8713-55A3-47C0-9A4C-977D8200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7AC7CB-CE9B-422B-BD9B-BC2971C6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50BE4-0FB0-411A-BC9C-585DE1D4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7FC48E-1889-431C-8ACD-E0F903B7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EF3F17-8336-4BCC-AD4E-C40E67C8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4099E9-A774-4BDC-BEEE-3B093CFA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D12FDB-3521-414D-924D-6AB26A29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F97336-2AAE-48DB-A2F4-C7B813F7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43FA2-8A13-498B-9CAC-AD07EF7D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06FBF-A654-4E57-B421-2A69B9A0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416E33-CDDF-4938-B2EE-A2C5035E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980E-088F-4E73-B2EC-76BDC5D1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65EE1-56A2-4C34-A2A2-018026C2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3D346-5862-4695-B712-8FA88479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3010B6-B73F-4676-AEF8-494B5223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CC0EA-ED01-41D3-9C32-3297C24A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DE2BE2-4D84-47DD-A35D-7835CB24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4959F6-0812-4FC4-83F4-D5B100AE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77D46-9DA4-4C73-8749-E0211A1C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F693BD-905F-4244-BA86-12EEE02F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648703-B42C-4012-837C-C293D0CC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21090-E7D5-4669-844D-8D9F9E8C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E5A-3EB8-4143-9381-2F1BB6ED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2A5D-5B85-437B-A8EE-5C61C597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C90B9D-EB05-4839-BA4A-004C881B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67339-E243-4371-AE3C-1237F024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D9416B-87C2-4FAD-A484-1A7C00FA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B8072B-4CFF-4711-8F7C-AD5E267F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ADB7BB-6AE7-482C-A5C3-40074038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1F66D-52BE-4BE8-8636-04DD260E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6D8AA6-6740-43FF-9894-282B461D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B225C4-6D34-4EC3-845E-6097C44C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6D3C46-3F65-4794-93F0-2F2C8EE2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F265F8-E0EC-4370-8609-C6D5BD0C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1BB4-6F74-4F02-AE02-AC21C333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C9654E-EB22-4E9C-9AF0-8D4430F4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AEF531-F044-4307-88F4-EF4E2639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6E0266-D04E-4BFE-ADF5-D592A96C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9511F5-37D7-4A2B-8806-94DBB031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3C69B6-2F82-4468-82BC-B1E3F9F9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78D9A7-C8BB-49A9-BAA4-B514A510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22A801-06BC-4965-A8E8-1AFE66AD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A2591C-A750-483F-8F54-229F3D15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485372-F2B9-498A-B1ED-E777E92A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1A2792-BE11-45A4-9ACC-6257E7BB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E27C-66BC-4036-AE0C-24099756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6A82AD-5D18-493C-AFA5-F08F00E4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1561A4-F293-4295-A640-4991466A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979FEA-EDED-48EA-9248-7B2D448C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AA50B4-EE7E-4C32-9E77-50AD6097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01AF18-55D2-42FD-9C97-1B684AE0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7E8F5D-E4FA-4849-B250-E99F32F9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95E810-A090-442E-AD21-4B577B0B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5C74A7-4FCB-496C-8A6C-EFA64E63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DF43C6-B1DA-467F-8D26-AD6D9CFF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923728-C746-46DA-B657-54944477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605B-D698-4BCD-9AEE-232E108D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D99F6B-F7A7-4B4D-A5AC-3EC44A2D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48074F-260C-4E02-BCA1-5D342988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3A8C2A-F5D4-44F3-82FE-45FE1013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D98E08-4DC4-45AD-B741-ACFB52C4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DBD5E2-5BEE-4FDC-AD1D-79C60680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699B08-AB54-4053-91C0-4BCFA12C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66B405-4953-406A-94C9-DFC11319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55ED5-10CD-46F5-BE36-BC2A801C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36E2B-BD94-4827-8AF9-79C1234E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E0DDD-378D-4AAF-8D62-278E351D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7DB8-2ADA-41B4-BF92-39E959FC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82F0C-1AF0-42E3-9CC1-F6697E79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BAF496-339F-43D3-968D-F017F07D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3B3F91-9149-4EC2-A892-DB9A0C3D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D76599-1D4A-4330-BE6C-A9DD2A8A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1485D6-960E-47DC-A03F-9AE4C087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F7C6CF-E722-4FBD-A311-E72268FF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911D6-6A1C-441C-B644-CF6B6B7D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AF3E13-A0B1-4FD8-9C31-D58C8EAE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97CA12-E368-49AC-A11F-4B0DCA75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981ED9-8EC5-421F-8987-CF6C9932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614DC-6275-4309-BACB-D0DAB896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DC898D-0552-4897-B7C2-3764C3AD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31AE6E-C83E-4107-8344-3546A84F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3F2D67-C0AE-4E44-AFC2-33B6F5E8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2A157F-B90C-48ED-96C0-E9AE78A5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68D4C1-EBA6-44EA-A10A-A470F524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8FFF5E-F367-40BF-8C72-095737C8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31F5B7-3EFA-4705-88B0-5F3FD960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D36C22-A037-4EEE-953A-E965AF34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6D10E1-1F5E-49F0-9AE2-50139F0C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329936-83F6-4296-BBA4-07693723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FC24F-9395-448E-A97E-EA9E6300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F39E1C-043C-4ED1-B81D-115A871F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36A977-E272-417E-9E9A-16B907A9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CF129A-F2A5-4074-BDF4-B5333B40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03C420-7B9C-4E3B-9062-3AD854E5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6DE68A-F1E7-4A9D-A580-69406D0D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EB1DBB-4DC9-444F-8F21-EBEF2D98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CDF653-1236-4AE0-AB08-5F4DE12F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DA56C7-6AE8-4C84-A454-169719B8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08B216-B100-47AD-9860-8E07030B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E32C8B-BDEB-4F5A-8A0C-22CBE655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6ABDE-A1C5-4CCB-91F6-916704FB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C684D1-9E10-4801-B050-9A63A62B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276151-56A3-44E3-A891-D4B3AB1A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BC0CC2-00A3-4FF3-9AB3-61AB7BE3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208F36-175C-4AA3-B1E2-6AD535BF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D95CF4-59D9-478E-AF10-7D07EABC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CB5AB3-96A1-4F9B-85C6-198FD278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18CACB-D8AE-454B-A71F-16BE2C3C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BAE5-090F-4063-8843-B28DB94E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A8E34-DF1C-45F9-A57A-4D0055FC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A8F-472D-4F76-886A-431C748E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07375-6275-4443-AE8B-5B4777D7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93A3-EB50-4A5D-8713-53D7D09E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18DB-BAAF-4B52-AAE9-0EF93411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4CECE-8BC4-4D28-AC1B-384CB1B7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F48D-3602-4C46-BD77-42A9D74D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9219D-4AF1-4D51-AB8C-342EAC32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60CFF-65A8-4557-898F-22DBB3B8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E79F4-F2FD-4826-9A78-C774CEE2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A7966-4407-4D48-8D82-6EA8D630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DD56B-AEAE-4731-9A57-6253884C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57E-C557-4AC7-9707-15DFC5D2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AFA15-9A18-4CB3-A91F-5955AE0B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97B15-C62E-42B6-B6C2-8539D208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D67D2-547B-41A4-BCD0-EAEA855E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95CB8-E1EB-479F-8CA5-11B9745B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3620E-C362-44CF-81A6-CABB21B9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4CAEC-8AF8-47BA-A57D-0BDEF8A1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C91BD-1251-454B-A6F4-0E17F637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EEA2A-D1AD-4109-ABF3-48346B7E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26ACA-FA88-4C4E-B6AD-E2A4F9E3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52435-1005-4F4C-9BF0-B5B48BBA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233-F0C3-45B4-BC30-FCEE8C24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FEA1A-67B8-4BC2-B589-3C479935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3753F-7C3E-4583-B1F3-C0AB0656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E41F7-F014-4319-87CA-F79F69F2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8A878-AFF1-4EF2-AE80-1D340DDE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4B4D1-7F68-4676-98EE-BE5527A5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16487-6166-44EB-A9E7-50E795E2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4B513-CBCC-4BDB-915D-0360DD2C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08412-286D-4C23-B7BD-671EC475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0E2A9-E294-41FB-AEEF-4CD0FF86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ECA04-9B4F-4EBE-9307-016C2CC5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44A-C189-40A2-8BE9-B00AD3E9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80231-9EE7-4D8A-B8D4-907F5849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73C81-7C3B-407D-8510-85421F11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934E0-CEBD-495C-B26E-E88879BF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05AD0-5791-46A1-88A9-46445D4E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0B2E0-05FE-44F0-B277-63E830FF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DDADB-959F-402C-9E45-64E75556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BEE4E-8020-4AD4-AF6E-97F935D0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3E61A-2BBF-4EDC-A1F0-B47F62F5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B90D8-6844-4FD7-A347-A3C1843A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6AB1A-C12F-4C10-96BC-3045BB6D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710-7796-48E2-B3CE-ED349D2C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44981-DA35-4DC3-9534-0F06F0DA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474EF-B18B-4D2A-B731-8795FD11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E7DB7-5A0E-43D9-9D6D-00FEC534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7E56D-90DE-456C-866B-51ACCF6C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4B39E-F640-47B5-8DC3-BF4120FF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DD47C-C6A6-4A31-B934-B12CF65F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BA90E-3BC1-440D-AC56-5409B1CB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5E5C3-D854-4117-B2C4-7F404F5F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4BF6E-50BB-45EC-B8EA-933EB93B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13745-55DF-45A9-A012-1D3AE28B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910-2248-4518-BB54-2626EFF7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E7F43-A867-4E43-9C60-2EDF8F3E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1D704-2E03-436F-A5EF-A76D553E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C1F9A-7BC7-4712-BB4D-37AC8BB6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9B442-271F-493B-A413-99704644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1FCFC-D2FC-49D4-9DDD-1504B983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9EA03-445A-40AF-B720-4C949B15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B2D73-4B22-4DA8-AE54-6138374D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89E94-5902-45F9-A6D0-0B62CD78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775A1-1359-4B01-B4F8-3BFDCA6D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48BF3-CA6B-427B-ABC7-A241977F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107-C580-476F-B034-B4DDBA86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CDE4D-53F6-4282-B098-141B718F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5CBA4-2800-4A75-A5C5-6CB03D7A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C5A4F-3676-4C07-A9DA-685E68CA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50DED-8471-43F8-B0A2-603C887F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1A961-3720-4805-93D9-7A297497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7E64A-DA89-4BC1-BCF8-35C6F247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EF18E-08CF-48A4-8D41-A94B60FC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40D29-E4FB-428F-BBE4-63A69BCA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7FA44-EF43-4961-BDDE-AB2738BA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F4D6A-60EA-4682-9C9E-946C7BBF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9E0A-2E57-42BF-8357-F0324337A9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2273-E021-4E73-B276-4C2201F257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FAF3-5134-4B6D-A298-1070ED54FD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B412-868A-4BCB-8E2F-CB5C45FE9F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47AB-7FE6-4B79-86C5-6860D9DEC0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51BD-F3C1-41D4-AC0C-7DC3422363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ADE7-5EAC-4FE1-904C-B6F95D36DC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13EC-184F-46A3-9253-B25D59270F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9BF3-52DE-4846-A86A-F5E96075F1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B3ED-BACB-4F9B-904D-4B44DA9927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6732-4079-42AF-A155-08C5ACBF8F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B161-6281-4214-AE7E-A494B45068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C810-058E-442E-804B-06CE7858A1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AD06-42EE-4ECD-824F-1842104ED9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B08A-D59B-4F42-A3B9-B1B8A362F1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66EC-9134-4050-A029-AE4CC59C1D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5035-17A3-4FF9-8251-2C23946170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B01D-5EC9-4DBE-A996-E31B3FEF51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C71C-401B-456F-8FE6-809ACA4C7A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2510-E4B9-4341-86DB-A86A708354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7B19-9A1F-49E5-9C78-630B7B5C57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6A21-29F1-4835-AD60-A238BCDC0E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9E23-0590-45AE-8E1D-00FA8A8DB6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FBD1-0385-4178-B154-D4433D5CF6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B8FB-9CE1-4BAB-989A-B4AE105E81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AD1B-9C2B-46F0-9224-4FF9A2D721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7ED4-7AE1-401B-8B1F-72337210D8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D289-C23A-4524-9408-54A0756EA9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E1CA-A705-42BB-9943-5011CB59B3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31DE-0A5B-4F7C-8BBF-4BBF8077CD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8051-7400-4710-B0E4-4F808DE102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EA82-88AC-47E8-AD86-88F14FDC3C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668A-57B0-4786-8BAD-48F961C0DA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F915-4140-4CC9-B30E-D2FEBE018C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C174-EDBE-455E-ACA8-59A38D1A79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5B41-1B99-4079-AF42-C4E632E750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A756-8143-4020-8F14-81D5376EF8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D0D3-953E-4698-94A9-85765AF52E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7D98-5D64-46C6-9F1C-850B5395D2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5B13-C39C-45C6-8177-61201F926F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641D-CB74-4DD8-9D16-3A21581BE4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514F-0AE1-4F63-BEFA-F38E3AC602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681280" y="2948040"/>
            <a:ext cx="37814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42920" y="939960"/>
            <a:ext cx="88581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285840" y="2162160"/>
            <a:ext cx="8572320" cy="25336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1873440" cy="4078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3995640" y="2205000"/>
            <a:ext cx="1873440" cy="4078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6948360" y="2205000"/>
            <a:ext cx="1873440" cy="4078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5"/>
          <a:stretch/>
        </p:blipFill>
        <p:spPr>
          <a:xfrm>
            <a:off x="1042920" y="2752560"/>
            <a:ext cx="1873440" cy="4082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6"/>
          <a:stretch/>
        </p:blipFill>
        <p:spPr>
          <a:xfrm>
            <a:off x="3995640" y="2752560"/>
            <a:ext cx="1873440" cy="4082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7"/>
          <a:stretch/>
        </p:blipFill>
        <p:spPr>
          <a:xfrm>
            <a:off x="6948360" y="2752560"/>
            <a:ext cx="1873440" cy="40824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8"/>
          <a:stretch/>
        </p:blipFill>
        <p:spPr>
          <a:xfrm>
            <a:off x="1042920" y="3286080"/>
            <a:ext cx="1873440" cy="40788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9"/>
          <a:stretch/>
        </p:blipFill>
        <p:spPr>
          <a:xfrm>
            <a:off x="3995640" y="3286080"/>
            <a:ext cx="1873440" cy="4078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10"/>
          <a:stretch/>
        </p:blipFill>
        <p:spPr>
          <a:xfrm>
            <a:off x="6948360" y="3286080"/>
            <a:ext cx="1873440" cy="4078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11"/>
          <a:stretch/>
        </p:blipFill>
        <p:spPr>
          <a:xfrm>
            <a:off x="1187280" y="3817800"/>
            <a:ext cx="187344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00160" y="739800"/>
            <a:ext cx="8885160" cy="60199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826920" y="5734080"/>
            <a:ext cx="503280" cy="4078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755640" y="6323040"/>
            <a:ext cx="5032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339840" y="755640"/>
            <a:ext cx="8466120" cy="59421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502920" cy="4082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684360" y="1297080"/>
            <a:ext cx="502920" cy="4078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4"/>
          <a:stretch/>
        </p:blipFill>
        <p:spPr>
          <a:xfrm>
            <a:off x="684360" y="2421000"/>
            <a:ext cx="502920" cy="4078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5"/>
          <a:stretch/>
        </p:blipFill>
        <p:spPr>
          <a:xfrm>
            <a:off x="755640" y="3500280"/>
            <a:ext cx="503280" cy="4082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6"/>
          <a:stretch/>
        </p:blipFill>
        <p:spPr>
          <a:xfrm>
            <a:off x="755640" y="4581360"/>
            <a:ext cx="503280" cy="4082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7"/>
          <a:stretch/>
        </p:blipFill>
        <p:spPr>
          <a:xfrm>
            <a:off x="755640" y="5734080"/>
            <a:ext cx="5032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图片 1" descr=""/>
          <p:cNvPicPr/>
          <p:nvPr/>
        </p:nvPicPr>
        <p:blipFill>
          <a:blip r:embed="rId1"/>
          <a:stretch/>
        </p:blipFill>
        <p:spPr>
          <a:xfrm>
            <a:off x="314280" y="2638440"/>
            <a:ext cx="8515440" cy="15811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503280" cy="4078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503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181080" y="847800"/>
            <a:ext cx="878184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657360" y="693720"/>
            <a:ext cx="782928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1" descr=""/>
          <p:cNvPicPr/>
          <p:nvPr/>
        </p:nvPicPr>
        <p:blipFill>
          <a:blip r:embed="rId1"/>
          <a:stretch/>
        </p:blipFill>
        <p:spPr>
          <a:xfrm>
            <a:off x="299880" y="1184400"/>
            <a:ext cx="8418600" cy="2085840"/>
          </a:xfrm>
          <a:prstGeom prst="rect">
            <a:avLst/>
          </a:prstGeom>
          <a:ln w="0">
            <a:noFill/>
          </a:ln>
        </p:spPr>
      </p:pic>
      <p:pic>
        <p:nvPicPr>
          <p:cNvPr id="1123" name="图片 2" descr=""/>
          <p:cNvPicPr/>
          <p:nvPr/>
        </p:nvPicPr>
        <p:blipFill>
          <a:blip r:embed="rId2"/>
          <a:stretch/>
        </p:blipFill>
        <p:spPr>
          <a:xfrm>
            <a:off x="361800" y="3425760"/>
            <a:ext cx="8591760" cy="26751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503280" cy="4078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4"/>
          <a:stretch/>
        </p:blipFill>
        <p:spPr>
          <a:xfrm>
            <a:off x="684360" y="3429000"/>
            <a:ext cx="50292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214200" y="1023840"/>
            <a:ext cx="8713800" cy="48103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503280" cy="4078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684360" y="2637000"/>
            <a:ext cx="502920" cy="40788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684360" y="4292640"/>
            <a:ext cx="50292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139680" y="689040"/>
            <a:ext cx="88660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6:0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